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6F6-AF11-4E3C-86FC-956050EE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DF5-FE81-4B99-AA39-4A849046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D89F-18DD-42AA-BE7D-ABDD43DF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EDAD3-172F-424C-B893-BFD973E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9642-5A29-43AA-AB73-4918DA6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0437D-F2C8-4D10-B31F-7C58FAD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8CC76-5F01-4BC0-8398-E4D9E79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87DA5-7B4B-4C02-9EFD-63ADCC8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67466-4E21-405F-AECE-FE25B8C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F3312-C35F-4570-B9C9-4AD45F76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ADDF-F004-4CF1-B41B-8B2619A4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2B743-48DF-4A71-B735-D72DCE90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CCF-A4BA-4C57-84BA-B167135F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C022-CA67-44D4-A388-E633B13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5C9B7-F516-4F26-A24E-A927048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2D9FE-C05F-48E9-94EC-38BA9894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25BAF-BE6F-4228-9553-0905C76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174E-BC6F-42C6-845E-7622281B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37F1C-09EB-437B-8581-7957A37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CB855-AA60-477F-9726-9312C6E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78415-396F-4B31-B7A1-5B032A8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090E2-891C-4F36-87CA-74794AF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2716-1111-4755-B4E6-75E5030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7DD-F9D6-4895-8D54-7D0902B3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A1B64-FA35-4E2B-B127-40B92493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48E27-726B-4446-AFF3-9743C9F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918B0-8382-4651-81D7-3542F4D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C442-0D86-4637-A8D9-1A0A7855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2E10B-9C00-4156-A3A9-1C177A9B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1FBA-2F6F-405C-82F7-2C2C03F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CB789-B5B5-4A31-989E-A607356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8E2AC-67C5-4E70-B55E-427A47C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EE148-252D-4A46-AD50-4217D95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D18C2-AD27-4ACD-B05E-A84D8FD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539-EA52-4F4D-ABA6-88145CC4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59D44-1A00-416C-BB76-08D39ED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5AEBC-F46F-41B2-B5D4-F7F3EE9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92064-164C-4D6F-9CFC-01E7783B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B4287-71E8-4DA3-AFF3-3E7ECBAE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A7687-558F-4327-B136-947CF9F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6D40C-2BE9-4724-93C5-A1F7524A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59BE8-5423-42A1-9161-BAB936CC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1FFC9-1EDF-471B-877C-6E85778B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08FB-8A15-4C0C-8FA2-4B61128D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A1F89-0231-4606-9062-D7FC30E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63E-6FA7-496D-ABEC-9165AD86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C9B50-F6D8-46BD-B66A-2330C00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72AC-FCCB-43C7-9520-B009938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9D92D-0510-42B7-A848-FC8214E9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B9352-5271-4C6D-B0F0-E9770A66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E1BF5-76B2-4820-A63D-5371CAAF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6CCA8-505C-4ABA-BD8E-92BE2049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69A9A-45F9-454A-BB4C-B31EE73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F21E2-B30F-4173-8605-141C806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0D722-AFE9-47C7-8B82-BC0AA03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DE942-1B08-4FC4-B426-EF8F186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E73-D114-4A93-A8D3-39022A8A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53EC7-A67B-4C65-984D-086D6975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F060E-BD1D-4BA3-B837-04AA6C1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1A926-421A-452A-BD68-BED6C0C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23D4B-3988-4840-8A31-09BDC29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78D8D-3735-47DD-8853-9C646707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EA947-B9ED-4063-A27D-7737EF35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28E0D-B09C-4E90-B1D4-046CAE2D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347B9-24D0-48E0-AD86-D4F9EB71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6122A-A630-42AA-812C-F65664A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3051E-410E-418A-B70A-CF25CBF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D49-A1B0-429A-B30A-2545F50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67557-E882-4A4B-B095-6F405D3F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9D254-BC8F-422F-9A16-FEEF8F4F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A5CD3-84B8-453A-8756-03AE89E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0696B-636A-46B1-8808-C1AB65B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D5180-9A1F-42DE-9332-9E18F1A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C0C90-68EF-4B31-9AF2-292091B1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A3595-0D03-4EC8-B2B1-A2669F9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6D4D8-21D5-4F04-B40E-471B897E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3C126-3A74-44CB-9228-D71036C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01D6B-B187-4D52-9258-2EF3A615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9AD8-99B5-4316-A0FA-83CA975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1C2C9-07B0-4745-B9C4-83E13FE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10FF1-6638-4AA3-AFFE-AA9C0EC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E8705-52B8-4014-A4CD-A55AE1A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37190-3E3B-40D4-8A6C-83DF7496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80E2A-0D0A-4B7C-8238-DA409FE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4D7BE-4226-4F80-B94E-AAEB883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65A20-9104-46B5-A7D1-FE5AF41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DF8BD-96FE-4301-8EF0-7B68C2D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3FAC0-080F-403C-8BB6-2D50A7E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50BA5-98E9-494F-9D21-966EBED3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739-581D-4B1F-A875-B753E02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6D8CE-5FA2-4F87-B814-26F73938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F20AD-40B1-40E9-88DD-DC65ED34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9D03E-51FC-4617-B64B-F80E41C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70BED-652D-4F49-A2F3-B9E2986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7BB90-067E-4DD0-BE85-5268F14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080BA-F8C8-42FF-96E3-E06CEEC9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7D06B-EF9B-4E5E-9DE9-F3D7EC0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41845-F14D-44A7-9097-30C58A5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FC80A-7231-4FEE-B17E-236DD4E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DEBB0-F115-4E00-A757-5E49343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F28-223D-4C9F-83E3-86F8A6E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D27AB-0C9C-45FD-8D42-718B34E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CDBD5-0EC3-411D-9762-A82F3E9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DABEB-E316-47E5-B24D-99BA0E9F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201C4-41FF-4AF3-855F-6B7FCAA8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7C928-6A2A-4116-88D8-291382F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3F77D-9F27-446F-A7DA-5B53373D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C11A7-A0C4-400A-9B2C-4AB70AD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CE26E-3F9F-4F19-B15F-64E5E7A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0E433-BBB1-4328-8745-ACB0D42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D0FF0-DA6F-4CA7-BD0D-2EC0F29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0FD-ABD7-452F-AC0C-4BC4EB99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479E-1774-4319-A061-C0A3E92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52753-FBBC-4521-92D9-288DA92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6DBE5-F8D5-4F20-9D2E-51E9BBD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D8D19-0E4B-4939-ACE3-F00CB36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17242-D9B3-4A58-983A-F2B793AF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D4907-A155-4A44-BD2B-C2296154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8CC36-2C21-4141-BB55-62B60FCE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4567F-4419-475F-9F11-A5401789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35C25-977C-4DAD-90B4-87CED86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B4F5F-F110-4A25-A3D6-E76FE38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6A709-6CDC-4165-B2BC-4DFF27DF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05F2-CE80-4931-9CB9-FF7E6BC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5702E-D74C-46D8-B164-F1BAB29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7CE0E-BCB3-497E-8381-F6D5A0F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0D608-5E05-4DBA-8F38-549DF3E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17BA2-7511-4C09-970D-2C11434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DB24C-BC1F-45D2-90E9-74966B4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0914C-AF07-42A6-9763-79B5877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45DB4-C9AF-4BD1-B658-999EB6C6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A6100-DC62-462C-82FD-A987B214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C70CA-3567-406C-95AA-A4164390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BAD92-8DAE-41B9-8C0D-12CAE21B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7AD-D05C-4AC8-82D2-85BDFAC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4C160-50A0-4B6C-9D2F-A6DF8D4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BBC0C-DB55-40B6-A372-DF6A393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7786C-7969-4C5A-98F9-CBB8F0E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E37DC-6897-4294-8CE0-10C7F3A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C7134-BA20-404D-9635-3178D10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488EF-DB78-406F-B73F-EF218F9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704DB-4A16-43C5-8355-6BE25215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C528B-2EBB-475C-9BF3-62D03756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9A62C-7AE4-4491-920A-0610BC0C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9E4D8-A0E1-4B3A-A8E9-8B1ABABE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3CF-34C9-4D25-9874-B672E1BC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4111F-0132-4671-86AE-DE71B39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FD3AF-5241-4C01-8DDD-29039D5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8FEAD-1085-4A28-AB33-9B0501A7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B37AF-BE42-4524-B5A4-FC128A9E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94B93-6D5A-4781-9067-274F45D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8ADA5-AD10-4E08-AA44-B78148E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691A5-32DA-4FD4-9264-A647EF0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75938-0DEB-4067-96F7-959AE56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8F61D-598F-4889-9A7B-0B167BB8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24A0C-241D-42B9-82D0-8322FBB3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761-DEEB-4D3D-9908-3E4A312D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9BF7E-F752-47A6-BDCC-6A0DE748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1CFAE-4C44-4867-BEC4-168E1D57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271A2-62D4-42A2-9C2B-738EE9B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1814C-7D62-4C74-8718-9DBD4DB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EDF17-2540-4AF6-BFD9-767C306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D483D-A4D8-4F4F-B8C5-D221758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86D60-DAAD-421C-9CE4-FAF1FBF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C5DE5-CFF6-4623-9AD1-F858513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259C4-36B0-42E1-89AB-A2C4415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0115E-0C99-4BED-88B4-167B879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93C8-2091-4A21-A67C-4C0D1642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F9D67-7C4C-4BEF-BDE9-871EBC1A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92ED7-26FD-411C-9B6A-394CB0F3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A0AA1-D002-4CEA-82BD-CAA96527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6CB3-A720-4D8D-93B8-5C93484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8A26-5A9C-4F95-ACFC-E43069D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C452-D622-45C3-8DF3-2D6C8DBA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81A4-B1FB-46B5-B907-145114C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8B0-E4EC-4676-8135-D269736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DFE2-4A43-4A28-B99E-9E66425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E712-363F-4697-AAFD-EC9EC8E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CBAC-65CF-4303-B738-CAD7DF3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BB4B-A7AB-4540-B13D-6CF4524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72DC-6852-43D5-A668-884C108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A532-107E-44EE-A0EB-C47BC493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B08C-D18B-400C-A514-1E7B9ADC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D19B-E3F5-4C51-B5FE-B7A785E3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ED41-A354-48BA-BACD-890ADFA2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2EDE-07C2-4EF7-B5FD-20DD1C06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AB1-A184-4BE1-BD00-D852343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1957-98C7-4BB2-A46A-B8633FC4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7B23-D11F-49B6-B5C6-90C9A52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EFFF-C1C2-48EA-BD1D-338DD06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F147-9FA2-4127-9AF2-2D46D4B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B134-EABB-440F-8AB3-BC00706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0971-31FA-462C-BF52-7425E1C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900C-F7F9-4610-ABB6-08A89D7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838B-C2CE-4482-88F0-5953F936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4084-3318-409A-9C5B-B07014A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90CF-CD26-4FED-9850-841BEEB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645-95D4-423F-B6E6-1D2C99D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4354-DE74-4E82-9968-914ED5FD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F247-E864-4065-B4FF-DB38166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5D1A3-17D3-42ED-B1B2-DCBD923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4898-89B0-4460-9075-7052334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97F9-1119-4A48-A300-3C6514A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173E-D041-44CE-AED6-D9C15D1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28138-5EE7-4793-97EE-5C8FC5D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BA49-5F14-474B-A0F6-35C0F6E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6CC4-513B-42F1-91C8-FC43D8E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8899-530B-4981-BEE1-4F3FC36B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256-13AD-4390-982C-DD09451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503F-27E5-4AC9-9802-7C919D8B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8554-CA66-4FD1-90DA-3D864FD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F2CF-5087-442E-A900-B1F71B78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88BB-4BFE-4C32-97DA-7AFC5C1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6FCF-0A44-4573-9E95-CCBAFB3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68E9-FBBA-48F9-BFB7-F8F28D47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6678-60BA-4F7E-9F4D-03BB2836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F881-9738-4715-A04C-3E77C13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450E-4649-424D-A246-BC39B10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7E17-1584-40C2-93C6-0BB05D6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296-D654-4DDB-9CC2-2C318FF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0B39-110D-4FF2-BC82-1D4FC13F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6285-A66B-4156-8E6F-51AAA801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6C37-DCD5-4784-860F-F1CFD008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8D59-BABD-43C1-BFEF-20747EC6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8A89E-8B87-4513-B6F4-2DE25397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A3671-5B66-44B6-B39D-565DE62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A8C2C-303B-4482-9F90-1ED59F1C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92A9-B150-4C13-B709-E120371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8068-468C-446C-B0F2-441709A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24F7-D5D0-4DE8-8FB6-C0EF3B5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F4C-4797-42FC-83F0-E6145F16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EF10-71E4-4004-ABEF-48E650F6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A929-E2B3-4560-AF17-BC13870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1A8A7-4C8C-46DB-A281-0526CA7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EA20-8180-4A0B-BC7F-54B09F8B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8DAE-AA89-44D5-9AE6-E874C80C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EF64-92CD-4E08-B196-BD5D5FAF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02B1-2180-4182-A5ED-DE9B73E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18E7-7013-401D-ADA4-BB832BB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509AE-DED3-4587-8BBB-37017283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C53AC-EB9F-43CE-AADF-39F6604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7FF-B1BD-432E-B781-CD6A688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C74A-4FFA-41F9-AC7C-EB00453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220E5-1A52-4BF8-9DD3-001265B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6472D-A055-4414-A9F9-DA162B7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BE1FE-BE7A-4099-9AD8-C5EF486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B846-E4A5-42A8-ADB2-A757E72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C4F2-1656-4C31-8337-F63FAD9A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8AB9C-20C6-4674-A214-A879B5DF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A89FA-CABF-4372-B35D-BE6F0EEA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9625-5537-44B3-9068-CB9067F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CEC4D-99F9-4D2F-90DC-6EB60E2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3C2-35CA-43E6-A952-84C8C33BD0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C176-5927-417F-BACB-95746CDD0E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00E-5157-4B86-B0EB-0AC714FB9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3AD-6C28-4225-8670-2D81782315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DF72-F5AF-4E2E-AE5F-4838CC119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7917-B1E0-4AB6-8271-D3324A2AA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9DBE-C026-4C25-9054-E6B2FACAAB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8E5C-ECFF-435A-9322-9537102B6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BD2B-D7FB-42AB-A77B-C1AB7FF07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0DC-D919-4E1A-8D52-B38A1B5C9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204-B34E-4BB9-9C9D-2A2CA1539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7AF-C6C6-4283-AC9A-C8EB1E264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488B-B635-4566-8C97-F91BB7DCD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FF1-C757-477D-8E3A-2C157B877A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BB5-D70A-4ADE-8EED-30AB117FB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FA0E-1918-474C-A463-A00234A1E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8597-6450-4285-ACE7-B445313082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85D1-8BED-4F7F-8773-56BB6EB28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9843-BD04-4277-8C29-FF3D4CD91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567-6654-4F1B-A843-4F193110B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FC2-80DF-49BD-801F-7FD8B3764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411-BA15-408A-A2D5-33DC55C58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D92-121E-4841-9835-D44D46F66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A9B-287F-4BCB-98A4-AB6D26CD4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280-6B28-48E7-8201-AA76EA111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EED-52D0-4272-9E91-B5FA51669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C906-3691-49A3-AE1B-BFFEA0655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F58-F536-4C7F-922C-C144DB8F6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3C6F-DC2A-4B4B-BDB8-73EF89241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1B04-48EE-4C06-AE5D-F40A24060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1E6B-D3A6-493A-92CC-EA8FA2B56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EFC-7856-4A40-BC51-18CE99E5A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076F-A947-42AE-BAFB-9CD58120F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F60-4E22-4976-AF58-3EE51AD74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A18-2ED0-4608-9954-77C7DE724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778-6338-49A3-ADE6-BB1167E75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E4A-0CC5-408A-BA25-9C08B0255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DF4C-7A4E-4BA3-A16F-C9BD91A1D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943-63E7-4A06-924C-C1BD17B8D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68F-C754-4B74-A1CD-429AAA45A8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85880" y="2909880"/>
            <a:ext cx="7572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252360" y="887400"/>
            <a:ext cx="8639280" cy="5781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00000" y="410688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1042920" y="4724280"/>
            <a:ext cx="568800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1042920" y="5950080"/>
            <a:ext cx="568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08120"/>
            <a:ext cx="8591760" cy="610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948360" y="5603760"/>
            <a:ext cx="15112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311560" y="6292800"/>
            <a:ext cx="1511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47640" y="781200"/>
            <a:ext cx="7848720" cy="574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6443640" y="2133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924360" y="350028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427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4427640" y="479736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6659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6588000" y="481176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3132000" y="5964120"/>
            <a:ext cx="93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9880" y="1314360"/>
            <a:ext cx="8544240" cy="4229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14280" y="1314360"/>
            <a:ext cx="8515440" cy="4229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545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54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99880" y="1247760"/>
            <a:ext cx="8544240" cy="4362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525600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258920" y="443700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1187280" y="5041800"/>
            <a:ext cx="52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600120" y="1619280"/>
            <a:ext cx="7943760" cy="3619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116000" y="226224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4464360" cy="936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393372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446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62080" y="1862280"/>
            <a:ext cx="8619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395280" y="1057320"/>
            <a:ext cx="8353440" cy="4743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184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68360" y="2392200"/>
            <a:ext cx="5184720" cy="8208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395280" y="5243400"/>
            <a:ext cx="828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0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